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3.png" ContentType="image/png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8.pct" ContentType="image/x-pict"/>
  <Override PartName="/ppt/media/image9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90D-698D-49CA-A3A0-11364DED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014-23DB-4F7A-9231-32C2ED4F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8A8-C6DB-4545-9DA8-D2EC791A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A07-2C1A-4FEB-9B06-AB1C711E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E458-C410-4114-B164-25E45A19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91A3-4C92-4836-B18D-255DE556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CA02-A26B-4D4E-BA05-7F26D05C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3C05-4772-4454-9769-43D78768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01A5-A582-4929-B751-5B2EB22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1467-9C17-4D0F-B737-AD3E5945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39E0-F9D7-4207-AAEA-331B971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51A-D585-47FB-9E9A-E21A8579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208A-2F10-49A1-AC15-56C851BC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54AD-9FD9-42A4-8329-59C003D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DADA-A942-4105-B5CD-95E299EB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BE04-9036-4744-8830-D87AD7DC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7EFE-2369-4B46-AF16-7F8B6C1A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545-223F-447B-AB26-2B788275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3AC-A48D-4560-9B77-26EFED31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031-696B-4660-9A21-6022BA64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B2A-8592-461F-99D1-F223D7FC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AF6-B7AA-4053-AEE2-2378E30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29C-F818-42AB-8024-6E70A89F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A46-D0BD-48E9-8D38-ACF7EA7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1142-7352-4BFD-BFE8-8A592757881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8DD-EDE4-4A8F-9761-F07575970BF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8380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5335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Bobby Fos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2320" y="914400"/>
            <a:ext cx="4267080" cy="33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nformal Roman"/>
              </a:rPr>
              <a:t>Cove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352680" y="3962520"/>
            <a:ext cx="30481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itu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1749600" cy="1860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238880" y="1371600"/>
            <a:ext cx="1597320" cy="1949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 rot="7642800">
            <a:off x="7543080" y="22096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sible Appl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ubject is very important in conveying what a game is about. So it would be needed for game covers, as well as book and DVD covers based on what they are abou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</a:rPr>
              <a:t>http://www.gamepro.com/article/news/216772/does-gender-affect-game-reviews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</a:rPr>
              <a:t>http://www.hongkiat.com/blog/60-attractive-ps3-game-covers/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</a:rPr>
              <a:t>http://video.ign.com/dor/articles/894993/ign-game-scoop-tv-how-do-normal-people-see-videogame-box-art/videos/gstv_spc_073010b.html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066320"/>
            <a:ext cx="8226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0 attractive ps3 game covers."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www.hongkiat.com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Shutter Shock, Think Stock, n.d. Web. 15 Jan. 2011. &lt;www.hongkiat.com/blog/60-attractive-ps3-game-covers/ &gt;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Gender Affect Game Reviews?."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www.gamepro.com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AlienWare, 1 Oct. 2010. Web. 5 Jan. 2011. &lt;www.gamepro.com/article/news/216772/does-gender-affect-game-reviews &gt;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tfield, Daemon. "What's On The Box?!."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www.ign.com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Red Bull, 30 July 2010. Web. 19 Jan. 2011. &lt;video.ign.com/dor/articles/894993/ign-game-scoop-tv-how-do-normal-people-see-videogame-box-art/videos/gstv_spc_073010b.html &gt;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does gender and cover change what video games people are interested i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5676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guess is that a female would want to play a game with a female on the cov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lso think a male would want to play a game with a male or guns on the fro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886200" y="4067280"/>
            <a:ext cx="4457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 game cov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et for testers to fill 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nc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581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t the testers, 4 of each gender into room,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 at a tim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them write which one looks better to the and wh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ile answers toge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are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ow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nal Fantasy 13 with 2 girl votes, and Little Big Planet 2 with 2 boy votes tied for fir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lo 3 with 1 boy and 1 girl vote was voted wor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ted Best Co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178080" cy="4497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295280"/>
            <a:ext cx="2946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Girl Vo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3768480" cy="4724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724280" y="1447920"/>
            <a:ext cx="299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Boy Vo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ted Worst Co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124080" y="1751040"/>
            <a:ext cx="3573720" cy="5106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209680" y="1143000"/>
            <a:ext cx="5537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Boy Vote 1 Girl Vo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was overall surprised at the results of my small survey. I thought the Boys would vote Little Big Planet 2 the worst, but in fact it got most popular with boys. I wasn’t surprised on how the Girls liked Final Fantasy more thoug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was surprised that HALO 3 of all things got last with 1 of the 2 votes being ma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56:54Z</dcterms:created>
  <dc:creator>USD376</dc:creator>
  <dc:description/>
  <dc:language>en-US</dc:language>
  <cp:lastModifiedBy>STERLING  USD376</cp:lastModifiedBy>
  <dcterms:modified xsi:type="dcterms:W3CDTF">2011-02-23T14:55:29Z</dcterms:modified>
  <cp:revision>8</cp:revision>
  <dc:subject/>
  <dc:title>The</dc:title>
</cp:coreProperties>
</file>